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55DC-F49A-4A48-93CE-B199B8236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2991-DEF0-485F-89B0-7618FD64A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C5AA-DCCF-476E-ABAE-FDC1809A6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DB03-A73C-40C8-9DB7-3C700F938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D54C-B0FC-455E-B891-358620F48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FFFE-FFCA-49FE-9C0F-7D8EFDB33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FAD2-BFA8-4FC0-8CA0-B90C7460B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CBA0-346D-4D1A-95C0-65D22D9A1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B3A5-A091-446C-B7D8-6FAECB0B9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BA97-F822-4D82-A55D-DD528C9F7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C799-88CD-4110-9ED9-1090B5D9C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AF3A-E24E-4C3B-A021-2266C3DA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146F6-964A-4CF3-ADCE-4E431981AC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ICLO    DE    VIDAS    DE   LOS   OCÉ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OCÉAN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SON  LOS  RASGOS  MAS  IMPORTANTES  DE  LA  SUPERFICIE  DE   LA  TIERRA,  Y  SU  EXISTENCIA  Y   EVOLUCIÓN    CONTROLA  MUCHO   DE   LOS  PROCESOS  GEOLÓGICOS   MAS   NOTABLES   DEL  PLANE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UNOS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CÉAN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HAN   APARECIDO   SOBRE    LA   FAZ   DE   LA  TIERRA     MAS   RECIENTEMENTE   QUE  OTROS,  Y   OTROS  EXISTEN   DESDE   TIEMPOS  MUY  ANTIGUOS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AMBIÉN,   ALGUNAS  PARTES  DE   UN  MISMO   OCÉANO  SON  MAS  VIEJAS   O   MAS  JÓVENES  QUE  OT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S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UENCAS  OCEÁNICAS  SE  INICIA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(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  NACE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),   A   PARTIR   DE   UN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RIFTING  CONTINENTA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Y  TERMINAN   (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  MUERE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),     BAJO  EL  EFECTO  DE  LA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SUBDUCCIÓN   LITOSFÉR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   SU  DESARROLLO   ES  PROGRESIVO  Y  SU  EVOLUCIÓN   ES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ÍCLIC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S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UENCAS  OCEÁNICAS  CRECEN,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DESDE  SU INICIO,   DE   MUY  PEQUEÑAS  HASTA  UN  MÁXIMO,  Y  DESPUÉS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E  CONTRAEN  Y  RECOGE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(VUELVEN  A   SER   PEQUEÑOS),   HASTA DESAPARECER  EN  ALGUNOS CAS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CICLO  DE VIDA   DE  LOS  OCÉAN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FUE     PROPUESTO   POR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TUZO  WILSO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EN  1968,   QUIÉN  DEFINIÓ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SEIS  ETAPAS  DE   DESARROLL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CADA  UNA  DE   ELLAS   REPRESENTADA   HOY   DÍA   SOBRE  LA  FAZ    DE    LA TIERRA,   POR   OCÉANOS   REALES,   O   POR     ESTRUCTURAS   GLOBALES   Y  PECULIARES  EXISTENTES  EN  DETERMINADOS  LUGARES DEL PLANE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ICLO    DE   VIDA    DE    LOS    OCÉANOS     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(continuación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1920" y="76176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TAPA   1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ESTADO  EMBRIONARI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  Ej:  RIFT -  VALLEYS  ESTE   AFRICANO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ovimiento  dominante:  levantamien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TAPA   2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ESTADO  JÓVEN.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j:  MAR  ROJO;  GOLFO  DE  ADÉN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ovimiento  dominante:  expans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TAPA   3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    ESTADO   MADURO.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j  OCÉANO  ATLÁNTICO.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ovimiento  dominante:  expasí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TAPA   4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   ESTADO   DECLINANTE.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j:  OCÉANO  PACÍFICO.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ovimiento dominante:  contra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 baseline="-2000">
                <a:solidFill>
                  <a:srgbClr val="ffffff"/>
                </a:solidFill>
                <a:uFillTx/>
                <a:latin typeface="Times New Roman"/>
              </a:rPr>
              <a:t>ETAPA   5</a:t>
            </a:r>
            <a:r>
              <a:rPr b="0" i="1" lang="es-ES_tradnl" sz="2800" spc="-1" strike="noStrike" baseline="-2000">
                <a:solidFill>
                  <a:srgbClr val="ffffff"/>
                </a:solidFill>
                <a:latin typeface="Times New Roman"/>
              </a:rPr>
              <a:t>      ESTADO   TERMINAL.            </a:t>
            </a:r>
            <a:r>
              <a:rPr b="0" lang="es-ES_tradnl" sz="2800" spc="-1" strike="noStrike" baseline="-2000">
                <a:solidFill>
                  <a:srgbClr val="ffffff"/>
                </a:solidFill>
                <a:latin typeface="Times New Roman"/>
              </a:rPr>
              <a:t>Ej.  MAR  MEDITERRÁNEO.                              Movimiento  dominante:  contracción  y  levant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 baseline="-2000">
                <a:solidFill>
                  <a:srgbClr val="ffffff"/>
                </a:solidFill>
                <a:uFillTx/>
                <a:latin typeface="Times New Roman"/>
              </a:rPr>
              <a:t>ETAPA   6</a:t>
            </a:r>
            <a:r>
              <a:rPr b="1" lang="es-ES_tradnl" sz="2800" spc="-1" strike="noStrike" baseline="-2000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i="1" lang="es-ES_tradnl" sz="2800" spc="-1" strike="noStrike" baseline="-2000">
                <a:solidFill>
                  <a:srgbClr val="ffffff"/>
                </a:solidFill>
                <a:latin typeface="Times New Roman"/>
              </a:rPr>
              <a:t>ESTADO    RELICTO. (CICATRIZADO).   </a:t>
            </a:r>
            <a:r>
              <a:rPr b="0" lang="es-ES_tradnl" sz="2800" spc="-1" strike="noStrike" baseline="-2000">
                <a:solidFill>
                  <a:srgbClr val="ffffff"/>
                </a:solidFill>
                <a:latin typeface="Times New Roman"/>
              </a:rPr>
              <a:t>Ej:   SUTURA  ÍNDICA  DE   LOS   HIMALAYAS.  Movimiento  dominante:  </a:t>
            </a:r>
            <a:r>
              <a:rPr b="0" lang="es-ES_tradnl" sz="3200" spc="-1" strike="noStrike" baseline="-2000">
                <a:solidFill>
                  <a:srgbClr val="ffffff"/>
                </a:solidFill>
                <a:latin typeface="Times New Roman"/>
              </a:rPr>
              <a:t>contracción  y  levanta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30T00:12:08Z</dcterms:created>
  <dc:creator>Universidad de Chile</dc:creator>
  <dc:description/>
  <dc:language>en-US</dc:language>
  <cp:lastModifiedBy>Universidad de Chile</cp:lastModifiedBy>
  <cp:lastPrinted>2001-06-30T01:22:51Z</cp:lastPrinted>
  <dcterms:modified xsi:type="dcterms:W3CDTF">2001-06-30T01:29:03Z</dcterms:modified>
  <cp:revision>2</cp:revision>
  <dc:subject/>
  <dc:title>CICLO    DE    VIDAS    DE   LOS   OCÉANOS</dc:title>
</cp:coreProperties>
</file>